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F510-0985-4E66-BEFB-2EA1CA4F4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1E4F-F1C2-4F9E-AF62-43BDDA2C8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B864-23E9-4CEF-996C-93E5E58BE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E6DC-88F8-4DEA-9166-C082D89F7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992A-669D-4809-9675-46BC72642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5FEE-7A6D-4206-86B8-A186A4C71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07DB-3432-4DEB-8580-A1DB78A0D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656D-0456-47E8-82C7-2CB6EE120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1F21-5AC2-4BC1-B540-A59104217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CE45-620D-423A-A59A-76FD5B34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942C-8746-44C9-9FC2-B625A268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F5A4-9E64-41AE-B671-BD4109C9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EC550-FD82-44BF-B88D-01E877B446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Exercises</a:t>
            </a:r>
            <a:br>
              <a:rPr sz="6000"/>
            </a:b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on</a:t>
            </a:r>
            <a:br>
              <a:rPr sz="6000"/>
            </a:b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Study Desig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848360" cy="3614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62120" y="3962520"/>
            <a:ext cx="7848360" cy="1752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838080" y="5715000"/>
            <a:ext cx="77724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7924680" cy="3124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85800" y="3505320"/>
            <a:ext cx="7848720" cy="16002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85800" y="5105520"/>
            <a:ext cx="784872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960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772400" cy="34941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62120" y="3886200"/>
            <a:ext cx="7772400" cy="1828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762120" y="5638680"/>
            <a:ext cx="777240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772400" cy="32259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85800" y="3429000"/>
            <a:ext cx="77724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925040" cy="2895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09480" y="3429000"/>
            <a:ext cx="79250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4678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848720" cy="27432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85800" y="3048120"/>
            <a:ext cx="7848720" cy="1511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685800" y="4495680"/>
            <a:ext cx="7848720" cy="1511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685800" y="5943600"/>
            <a:ext cx="784872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848360" cy="28954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62120" y="3352680"/>
            <a:ext cx="79246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001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620120" cy="2738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09480" y="2971800"/>
            <a:ext cx="7620120" cy="2590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09480" y="5486400"/>
            <a:ext cx="76201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696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69644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620120" cy="3581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838080" y="3886200"/>
            <a:ext cx="7620120" cy="1676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914400" y="5562720"/>
            <a:ext cx="75438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7724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11-17T22:28:04Z</dcterms:modified>
  <cp:revision>103</cp:revision>
  <dc:subject/>
  <dc:title>The Art in the State of the Art</dc:title>
</cp:coreProperties>
</file>